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579-591A-4010-8654-1B710A9F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172-6DCB-4976-A458-7F3DCF79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CD7-0929-4C74-BB6D-613F6A8D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39B-FDB2-4B16-8E98-6761A977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287-81AC-4E3A-98AD-A01128A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CF8-0D43-4C67-8FC3-8535FAFE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11B-5648-42BB-911F-D9CE9250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CC0-B80C-4ABD-92C3-F3C68C38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115-B202-40F3-9F28-483025A0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179-BA2B-4E38-871E-AE4A2EF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0F8-2925-43BE-9FC8-9C1D054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4F7-26E7-4B64-966C-A6D3C50F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A743-D315-4337-839C-268F5672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ARKSHIRE  ASSOC. 1922      LANARKSHIRE  ASSOC.  1928          LANARKSHIRE  ASSOC.           LANARKSHIRE  ASSOC.  100TH.                     BELTANE                                             BELT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TANE                                             BIGGAR                                           CARLUKE                                         CARLUKE                                         CARLUKE                          CARLUKE  V  CAMPHILL  100TH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LUKE  100TH                          CARLUKE  125TH                                      CARNWATH                                   CARSTAIRS                                        CASTLEHILL                             CASTLEHILL  6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00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VILLE  PARK                      COLVILLE  PARK                              COLVILLE  PARK  5OTH                COLVILLE  PARK  75TH                            DALZELL                                           DALZ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189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40160" y="26028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8196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8265960" y="26028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073240" y="1989000"/>
            <a:ext cx="1133640" cy="99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024520" y="1628640"/>
            <a:ext cx="139068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88880" y="314172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00520" y="3860640"/>
            <a:ext cx="987480" cy="9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168880" y="3716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824520" y="3716280"/>
            <a:ext cx="97020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76160" y="5516640"/>
            <a:ext cx="8226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144880" y="5373720"/>
            <a:ext cx="87768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5084640"/>
            <a:ext cx="85860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240160" y="537372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81960" y="5157720"/>
            <a:ext cx="135252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408880" y="5373720"/>
            <a:ext cx="87804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8265960" y="1700280"/>
            <a:ext cx="1206720" cy="128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6608880" y="1773360"/>
            <a:ext cx="1326960" cy="117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728880" y="1989000"/>
            <a:ext cx="1009800" cy="100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429000"/>
            <a:ext cx="1284480" cy="132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93240" y="3933720"/>
            <a:ext cx="1326960" cy="8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60520" y="2060640"/>
            <a:ext cx="1060200" cy="960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114200" cy="10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073240" y="260280"/>
            <a:ext cx="10857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07:54:25Z</dcterms:created>
  <dc:creator>JOHN YOUNG</dc:creator>
  <dc:description/>
  <dc:language>en-US</dc:language>
  <cp:lastModifiedBy>JY</cp:lastModifiedBy>
  <cp:lastPrinted>1999-12-15T19:38:48Z</cp:lastPrinted>
  <dcterms:modified xsi:type="dcterms:W3CDTF">2008-04-08T09:35:38Z</dcterms:modified>
  <cp:revision>25</cp:revision>
  <dc:subject/>
  <dc:title>No Slide Title</dc:title>
</cp:coreProperties>
</file>